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BB3-1CCF-4B54-9F3C-671F02C0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3ED-E61E-49B6-AFDE-B7171892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8AC-A6F5-49BF-A780-41505590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ECE-5EF2-4977-A48C-2DB5A2B4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90F-FA29-47DC-B1F1-F98F4B5B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F62-D034-4FA9-B758-3D8CE48B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068-CB1F-4E77-9D11-5C70E947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094-5A36-4615-8E91-9EC8AB8A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FE6-7F87-4BD6-959F-10FE335F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0178-2243-4EE6-B922-555F2F87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900-E20D-456E-8F9E-38AB195E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CA3-DFAF-4F6C-B8EA-972A273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046E-A4AD-493C-AAD5-0B36A82DD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487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4"/>
          <p:cNvSpPr/>
          <p:nvPr/>
        </p:nvSpPr>
        <p:spPr>
          <a:xfrm>
            <a:off x="2211480" y="404640"/>
            <a:ext cx="4808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6"/>
          <p:cNvSpPr/>
          <p:nvPr/>
        </p:nvSpPr>
        <p:spPr>
          <a:xfrm>
            <a:off x="2124000" y="5335560"/>
            <a:ext cx="46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425520" y="760320"/>
            <a:ext cx="8292960" cy="53373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2"/>
          <p:cNvSpPr/>
          <p:nvPr/>
        </p:nvSpPr>
        <p:spPr>
          <a:xfrm>
            <a:off x="2916360" y="981000"/>
            <a:ext cx="3954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23:50:15Z</dcterms:created>
  <dc:creator>Бухарова Раиса Фёдоровна</dc:creator>
  <dc:description/>
  <dc:language>en-US</dc:language>
  <cp:lastModifiedBy>Бухарова Раиса Фёдоровна</cp:lastModifiedBy>
  <dcterms:modified xsi:type="dcterms:W3CDTF">2018-05-21T23:53:58Z</dcterms:modified>
  <cp:revision>1</cp:revision>
  <dc:subject/>
  <dc:title>Презентация PowerPoint</dc:title>
</cp:coreProperties>
</file>